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440D-BA7D-4759-AD29-86F9BD227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7AAD-27A0-4698-A41E-9F4572EEC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728190-E62F-4503-9AB5-2913BD413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1819AF-9887-4F84-B363-72B011216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1394ED-CAF6-4CB5-829C-08129122F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EC3671-CC46-4C7F-B7AC-5FC9EDE0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2AB499-FA75-4DA7-AC9D-84AB4898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56E09E-0793-4686-808E-40D3CB05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96E0F7-162E-4B46-B80E-9C8951953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AA404D-C6CB-4CF1-8B21-D57FB96C4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FF6D61-6922-41B7-BB41-B99C3F3A3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A7386F-CF64-440B-B2FE-E4F830928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AADE-0956-433C-8568-7EEAB0B54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BBE8D4-7844-4E0D-91A8-0A7BC5409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22323C-560B-4206-A748-2CC72C14C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4C83D0-4A6E-4AC2-A4C2-CB5D6B928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43E044-5AC6-407C-8BD9-70E6E1B2D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A892A6-99E5-4BB4-94A8-6799F6FB6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59AF84-795A-4785-BF2A-56D24153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BC6DF6-55A3-425F-908B-0DD3DCB7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DEED55-4A02-4738-9C33-7778A268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60C306-CF17-4335-9B2A-5802C9B42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95AEB0-9AAE-46A7-A50F-4229432D0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B5BE-6CB1-4BC3-87F8-832DDA7E6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662B41-B23A-4774-8199-5341B750A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89EF13-3C58-4E76-A76A-1FB807119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62AA9B-9BBA-44AA-AD6A-B98442FB5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E50B80-1D73-4B88-8EED-EC78CC528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1F6255-81DF-4D6E-B267-31B82D4D0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D59AD7-4147-42AC-8881-2458CD907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AFFE8E-9B88-43A3-B13E-A917F0C68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6C16E4-6D08-4AA5-8F55-547184D4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A2B2A7-3425-4CF0-81FC-6B061C66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C5C18D-F7A5-4566-86D1-B796A9D4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47D70-9CA0-4B95-89A9-3127D79CB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5573A4-2368-449C-A54A-5FC24FB46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411A50-B873-48E7-823E-98BED94B5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A1BFD8-C356-43C2-87EE-E576BC760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DDFD9B-61B8-40CA-BD6D-12FBDB503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993BB2-560D-4722-A2AF-8D84057DC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0992B0-07C1-4564-AEE4-497CE0A6C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310036-EBC1-47C8-909F-67CA33411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7ECC2E-4C5A-437F-AC5C-BBA0CF59D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4DA9DD-554E-4E70-AC34-08B49199F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FAD668-8A21-43BE-9D13-BC85D1E6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F8BD6-9268-4268-B41E-6689664C7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B7FF9E-BF0C-4B5B-B0E5-E2D65321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09B424-F9B9-417D-A799-73307057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27F891-40AD-4931-B483-1F874C98F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6187C1-0700-4066-9C1A-00E401887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FB875E-699B-4B41-B4D2-5ECAFBBF9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64C307-3DAA-40B5-8E15-DB7F30DBF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449436-E3EF-4094-931A-9DB473BC8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13AEB0-0327-4466-85E8-9B68622B0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7E923E-E266-42F9-B051-0BCFE149D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737A0C-37C7-4F3E-8B8B-2C506E565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17842-4894-4F60-9DDB-5CD6CE98A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5CE278-DDB5-4CFD-AB12-F68A793DE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E54B2F-C454-40C5-88A1-0178DD32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84E953-3040-4677-81BB-1A4BCEB7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AB224E-F478-410F-9F29-7F853BDF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6349B3-62DF-4820-9599-0A69182CA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13CC97-6C3C-4571-A468-6A4954E6C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9E8EF5-6065-46DE-A3C9-E4F24CFE9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FE6F04-F45C-4248-ABDA-E530C1BE6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D97302-3967-4D7D-9BD9-19C21951C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02CCAA-3DD0-4C1B-A112-D11A921A3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7F80F-84C6-43C7-A8FA-E98BE5AF6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1F24FF-745E-4E94-AAD9-1764E5A3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1333D4-FB3D-4427-9474-497007C19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738CA5-B062-4EC8-BD67-A29581CA0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2FB501-DE81-4F1B-8A2D-0A6DB9BE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0CBD93-3B09-475A-9A99-171B6434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883AED-4474-4B70-9393-7D70D525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1954D6-D819-4414-82D3-34D862677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447EBA-DFE6-4782-A77B-7735EF008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056E1C-4CF8-4019-85C1-B7604BE3D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890FD0-7416-4C40-9929-58D6CAB84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2A1A7-BEE8-40A6-9DD5-E92181280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EE64EA-86EA-4F86-B328-3C0A8D367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6CD077-5283-43D7-9745-DFF441F7A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222475-2715-4978-AE78-6BD709186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614DDB-6F23-472F-A6AC-D200C9A4B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EC8151-0632-4139-95FB-E1AACB797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479528-27C4-4070-B49C-B5877921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96A60D-4501-46F8-9190-7A68B1B8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09764A-B68C-439C-9E36-841F9B67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6D1E37-8D8F-475D-9A56-85A036EEE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96A51A-5936-41D7-9D4D-0D01E8CE4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9F6A0-C0F1-4C53-B125-FA0688C27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34EC13-2F23-428E-8D1A-F6BCE3C75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E1D186-EFC5-49BA-9F51-2F58CC16C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33278B-C93B-46FC-B540-AADCF88D4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4CBAB8-A4AB-4115-9C72-47848D881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BB8D4D-7C4E-4B78-BCCE-416E6D5DF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25EAC1-D232-4F95-A21F-831367468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4E0698-4E02-4CB4-96B0-3CEF75035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FA6A92-CB62-4B61-A355-6DEAE97E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D8E874-EB5D-40C3-88CC-D42BEA6E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DB5274-C00C-4C20-ACED-44E5002C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1475B-7C6A-4AF1-9A1D-D93011F4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459585-54B9-4C59-B388-7B53028AA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7D2C9C-1B1D-40FA-96C8-37FF7B408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D6A4A8-8C4B-4FB4-81C5-1D5F6F2A2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4E8F38-A845-4AA4-AA00-29F296D5C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986E76-40A1-4DCD-A493-5EB04BFDE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EC9E8F-740D-4ED6-9C4C-89107D8E8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27503A-038E-4052-8BB2-1A798217D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2F0084-4B69-4ADE-83EC-8BDD7FE5A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A3C51C-60AE-4574-85D7-B91903011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C0D28B-B6C8-467E-A252-AD4AFD46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C251-3053-43A8-95C1-0A459BA1F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B74CD-7BDF-4D2B-ACA4-ED594EF7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E075CB-DF4A-416A-97D9-3F8C71A4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B844A7-9544-421E-989B-F33D63BF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841729-FCE4-464B-A5E7-30A4A5891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2F8A22-C054-4927-9513-173A4276C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DE0FC5-699F-4742-B63C-DFED0453E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6EF581-2EEB-40D1-A2CB-EFA4721CC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802E89-A11D-488C-B09F-6B0162955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7AC38E-2129-4C91-9621-84C80ADE1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C605AF-E712-4036-A41F-86558EEE6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7F7627-19DB-44E5-8A6D-26E7623E0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2A65F-6CC6-44A2-B2C8-8FD92D90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18B31C-5C7F-4AC5-9A40-D97E5FB55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ACBB2D-C819-46C1-A27B-917A6733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2AD57B-7D05-48FE-AE78-B236DF5D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D4E41A-FDAC-4E0A-888F-67C061B5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B9D9B8-865C-4B59-8E1B-9CB8B7B32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ACEA6A-303A-40D6-8F9B-A7EDBC4A0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D894DD-9149-4EAB-B995-3163AAB55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9D6912-FADD-4B9E-85CF-254E9647A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A3A03B-151F-4D39-8B93-29DF61D4D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FD6C5B-A1DC-46E7-A91F-FDC2D5A05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F2BAB-0BCB-41B8-A7FA-7F129B8AE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816C4E-8537-4BA2-8C1A-FA8462187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3C66FE-327B-443D-BEDB-341F7CD15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A1C85D-361F-4441-8D10-BFBEEB1E9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22C974-C74F-4B72-9058-D2EF42D7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EE9B6F-CCCF-4C02-B323-F9CC4E91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45599F-AF1E-4D37-B0E4-BBA44EB4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6F32B5-CBEC-4D45-A180-587B2F5A7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7CC5BC-E9EE-4783-A55A-C2B0F37E8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B27C2C-2855-487B-8BD6-2E52DFA2E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77C9BC-EA34-4DE5-8CDF-DF0A0BFDB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82C3F-F6FB-45BB-9E2E-2F481AD73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991C93-1486-49C0-B4C7-01F205C46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96D5D4-1DFA-49D8-AE8A-7BAFE71DC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1F3610-8FC4-4CDC-9133-880434437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AF5C52-C7A6-4605-A2C0-BD63CEDD9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B94317-3A9D-4115-89C8-58D649202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BC97E7-DE46-41E6-B1CC-EF7A993A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03A74F-7552-46C3-AE96-36FB55B3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4599F2-3C62-459D-A21E-167FE6C9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A5AAD3-22E4-4372-8604-D6E8FFC09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4E8F28-D24F-43CE-9AD8-29F32413F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CA4E5-164C-48CE-9C18-943EEE6A1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977BAB-3138-47FC-94D3-E7372D665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BB9E7E-0D2F-4AEE-BB5C-B9BA494D2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9802FC-AE63-4524-84F8-8C78438A5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FD0E43-FFB0-4B4E-BAD2-DE141D286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DA9AA1-519D-4EE1-A0C5-D94C1926C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E0DC11-F8B0-4319-A5F8-018E25597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105EC1-A020-47FC-8014-D4CFE611B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5AE579-45EC-46A6-88EE-10A44439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B6C837-1D6F-4270-A45B-67266A13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45BCEC-C475-470F-AFAD-DCD597A1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794CA-085C-4AA7-8E57-2104BDB28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AADC17-3A64-4768-8254-535EABC43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5A730C-D302-4FFB-BD30-E03E2EF1E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343908-116D-4E78-A023-C4D06E3C2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E0C6D-6C3D-4A85-A332-6464170DE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06403-A036-48D3-A21A-8AB1F3E08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569D5-212F-478D-8A88-164FA9CC5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BC32F-FDBA-4B74-BAC1-807FFE47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4C3F-476E-4ABF-AD8F-A97B179B5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B7B0C-5128-4860-BD5A-61F80D4C1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7D4D4-ABC0-4D77-B835-B495622B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04B8D-DCE1-423A-8D3A-4F61F8DA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04B1B-3CFB-48F2-83CB-60671C99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C0360-4C3A-4CCA-B45D-C4DB71168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956FD-CF5E-4F80-B315-35DF6EC48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8E467-88B9-41A8-BDB9-9712D8F0A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5B69D-660F-4F65-B9E4-1FD57C110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39CC8-C03C-47AA-A251-2D173387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998C3-79BE-40F5-8026-94B08049E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7D61-C0B0-4DE3-AAAD-2F6697111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66F3F-5E32-4D89-8F8F-5E7FFA613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69049-70C5-437A-8F6F-7781541F7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59D5D-D8C4-4D9E-AAD7-E60322376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4AF46-1799-4EED-AF22-EC37A0D3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1C0A2-179F-4FA0-9364-818F700E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90613-42F6-42A6-9AFB-1EA20F1A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54529-8603-4461-BD5F-F07763A5F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F28E1-62E2-478E-8B8F-C67CCF36E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5C3BD-6081-4FA8-BFC2-31913010B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1A123-EEED-49E7-B155-344D1E41B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5830-1C99-472D-AAAF-215802B84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29682-7CE5-4378-AAFD-E360BC56B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C10C0-C435-456D-BE5E-3B5902CF8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9DDC6-78E3-4D0D-96B9-F9A2293FE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23B9F-3284-472D-AF69-9A36D48D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9D463-EBDB-44CE-BB6D-6ABC631EC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A8653-33BF-4C18-A51F-F5D8B9AA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667E2-D429-4B20-9CD6-F6674FEB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CD703-556C-4DFD-BE49-37DB7545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61B40-D160-44C6-9F58-EA5F5EB34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50D93-A704-4679-824D-CA618742E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6905-71A1-47BE-B63A-149FC5E3F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3456A-D75F-4BE1-BC06-1E7348D5C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75E5A-BBD1-46C3-8531-7783D32EB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CC344-9345-449D-968A-61D8F4096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C89D8-329B-401E-9BB4-8EF1CDD5B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1EA04-1329-46F7-BC2D-233CC423C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CEC5E-FB1A-4C62-9C7E-362712AC9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349A6-CC56-4493-96A3-D183E6A40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CE355-F5BE-4959-8D09-6F3D9A98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15DD0-82BB-4E0A-9E6E-FF51971B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C5306-2E9C-4B41-9982-C2B0E837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081E-65EB-406A-A48E-006A57BF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B2B35-8BC5-49A9-B5BC-AB464D7B5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2EF40-994D-478A-A9CC-0CC852B7D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549CB-1BB8-4F6D-9268-5BDF7ACCD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C9E82-CC6C-42D6-B943-EF000074A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1A1443-07DE-4326-A5A8-AF7E96B7F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DE7D7-824F-492D-9953-DE1473AA2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7A889D-FF41-44A5-A0EF-7E150FA52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15E156-0638-4001-A1E5-759220183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72E44-57C2-47DC-95A4-3BEEE013C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F2F94-3B6C-4665-9089-55ED1369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DE10-3780-40F7-9637-2E4CFC8C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5CED8-3913-47BA-B34C-901378DB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E958C6-FBAF-466D-B007-3AFA55E3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55694-DDBC-416D-9200-BB5796CCD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00FEED-3E0E-4DAB-AD92-23D96188C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34AA77-81EB-4FD4-92A5-E69E3500F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AB4BF7-BB18-47F4-97F7-63E31A840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64CE9D-373F-4F09-8E94-5EA30ED4E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184A74-65A8-4E2D-ADB4-31761F5BD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4C7571-DD09-4D84-ABE2-076ACF026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7798E0-8AC0-4F10-8E0A-1F1171C3A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EA9E-C7E7-44B0-B677-AAD40E29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9DE1AB-2D56-40FF-B62C-6F1B576DB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8F9834-18BB-47C2-AB82-85B06BBB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9E53DB-9FBD-407D-94DE-03B264F2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0F64B6-C3A0-4E97-8138-BA4640A5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BD273F-7228-43C7-B806-57714E1FE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77A0DE-DF30-4383-B6FC-7E7BBB519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F18BEA-7CC7-4669-8EB2-0931EAFEA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4EA564-D4AC-4715-9C31-FE81C9822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12F291-F7FC-4F58-A451-C90DE35E1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6AABE1-FC11-413E-8AA2-B20150E08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B8D6E-F891-4BFA-9C54-B85C9E03CB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B2C92-6CAB-4695-8692-26B1459395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D12E6-913C-4690-8CB2-AB4CC82157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47441-0B52-464D-A2A3-E90620CC12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C8C04-FD64-4E87-8134-4DFF075B95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EEA55-1B05-4631-A3CD-41A3AFCBC8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EAA6E-2312-42F7-88AB-11F78EDE2A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E97FD-7B58-44EB-8EEA-5FAC2F2985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B85DC-C412-4C52-A9F4-7F5938ED13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0B87E-3033-4515-A11B-2A45AD8D32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4D64E-CE3C-462E-A7D8-2890716653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CDAFC-0C1C-4CA8-9126-D8A24192ED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791B4-9E92-4ED7-B61C-81CCD46567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7A8F9-C1B7-4E5F-9430-10FEFD8DCC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7DD75-C972-498F-B948-94A3A4B35B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969D0-F23D-4901-81DD-FBB7397CCE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CD4A9-C3D4-4F49-823D-BCA2A9DD4D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0CC42-AE27-4107-BAF6-88765BC89B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1AC2A-AC22-4A0D-BA90-DBE993F291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E7A61-6411-4F04-A725-6ADDAC39BB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D43E7-37C0-4EB9-8517-D966566846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081CE-6FDC-43D5-A664-5860FF4AF7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D4065-0D46-4CCC-AA04-1CE5EBD33B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5D5E8-E4A9-49C0-ADCC-B193A26264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7E3AA-5493-41BF-89D0-4966206D78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C6469-9E35-4A58-B007-52DF5ED9D3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BB5BD-2BE1-4DD4-9829-6A4C353674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BE979-7493-4A49-BD3F-A26567A87D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A1373-4424-4F31-A5EB-F60113EAB8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51E16-D481-41F6-B35B-3FE01055A6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3860E-2B35-4DA8-8A6F-DB37C2809B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01CDE-1B78-4042-9397-9D4C208817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86674-67AF-4117-A250-677EA67265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A1CEC-4035-45B8-B110-6205BC6201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6FDE6-7C1D-466D-BE54-F13F772E0B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13ED6-5556-4124-85E4-50D460D3BE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10E1D-8F41-45C7-8875-827DE08A71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E5966-4640-419C-B59E-12CD3F494E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931E0-1319-47A9-BAD2-D858EA63B0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59C55-DB82-4545-8792-42E9B8BDC4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2" descr=""/>
          <p:cNvPicPr/>
          <p:nvPr/>
        </p:nvPicPr>
        <p:blipFill>
          <a:blip r:embed="rId1"/>
          <a:stretch/>
        </p:blipFill>
        <p:spPr>
          <a:xfrm>
            <a:off x="1371600" y="3129120"/>
            <a:ext cx="6400800" cy="59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Picture 1" descr=""/>
          <p:cNvPicPr/>
          <p:nvPr/>
        </p:nvPicPr>
        <p:blipFill>
          <a:blip r:embed="rId1"/>
          <a:stretch/>
        </p:blipFill>
        <p:spPr>
          <a:xfrm>
            <a:off x="343080" y="1023840"/>
            <a:ext cx="8458200" cy="561996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4" descr=""/>
          <p:cNvPicPr/>
          <p:nvPr/>
        </p:nvPicPr>
        <p:blipFill>
          <a:blip r:embed="rId2"/>
          <a:stretch/>
        </p:blipFill>
        <p:spPr>
          <a:xfrm>
            <a:off x="285840" y="3664080"/>
            <a:ext cx="6215040" cy="42372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4" descr=""/>
          <p:cNvPicPr/>
          <p:nvPr/>
        </p:nvPicPr>
        <p:blipFill>
          <a:blip r:embed="rId3"/>
          <a:stretch/>
        </p:blipFill>
        <p:spPr>
          <a:xfrm>
            <a:off x="285840" y="4179960"/>
            <a:ext cx="6215040" cy="42372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4" descr=""/>
          <p:cNvPicPr/>
          <p:nvPr/>
        </p:nvPicPr>
        <p:blipFill>
          <a:blip r:embed="rId4"/>
          <a:stretch/>
        </p:blipFill>
        <p:spPr>
          <a:xfrm>
            <a:off x="285840" y="4797360"/>
            <a:ext cx="6215040" cy="76212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4" descr=""/>
          <p:cNvPicPr/>
          <p:nvPr/>
        </p:nvPicPr>
        <p:blipFill>
          <a:blip r:embed="rId5"/>
          <a:stretch/>
        </p:blipFill>
        <p:spPr>
          <a:xfrm>
            <a:off x="285840" y="5668920"/>
            <a:ext cx="6215040" cy="42408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4" descr=""/>
          <p:cNvPicPr/>
          <p:nvPr/>
        </p:nvPicPr>
        <p:blipFill>
          <a:blip r:embed="rId6"/>
          <a:stretch/>
        </p:blipFill>
        <p:spPr>
          <a:xfrm>
            <a:off x="285840" y="6180120"/>
            <a:ext cx="6215040" cy="42372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3" descr=""/>
          <p:cNvPicPr/>
          <p:nvPr/>
        </p:nvPicPr>
        <p:blipFill>
          <a:blip r:embed="rId7"/>
          <a:stretch/>
        </p:blipFill>
        <p:spPr>
          <a:xfrm>
            <a:off x="6572160" y="3622680"/>
            <a:ext cx="217188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2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Picture 2" descr=""/>
          <p:cNvPicPr/>
          <p:nvPr/>
        </p:nvPicPr>
        <p:blipFill>
          <a:blip r:embed="rId1"/>
          <a:stretch/>
        </p:blipFill>
        <p:spPr>
          <a:xfrm>
            <a:off x="785880" y="852480"/>
            <a:ext cx="6924600" cy="407664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3" descr=""/>
          <p:cNvPicPr/>
          <p:nvPr/>
        </p:nvPicPr>
        <p:blipFill>
          <a:blip r:embed="rId2"/>
          <a:stretch/>
        </p:blipFill>
        <p:spPr>
          <a:xfrm>
            <a:off x="266760" y="5438880"/>
            <a:ext cx="8448480" cy="99036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4" descr=""/>
          <p:cNvPicPr/>
          <p:nvPr/>
        </p:nvPicPr>
        <p:blipFill>
          <a:blip r:embed="rId3"/>
          <a:stretch/>
        </p:blipFill>
        <p:spPr>
          <a:xfrm>
            <a:off x="285840" y="878040"/>
            <a:ext cx="8786880" cy="70956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4" descr=""/>
          <p:cNvPicPr/>
          <p:nvPr/>
        </p:nvPicPr>
        <p:blipFill>
          <a:blip r:embed="rId4"/>
          <a:stretch/>
        </p:blipFill>
        <p:spPr>
          <a:xfrm>
            <a:off x="285840" y="1765440"/>
            <a:ext cx="8786880" cy="42372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4" descr=""/>
          <p:cNvPicPr/>
          <p:nvPr/>
        </p:nvPicPr>
        <p:blipFill>
          <a:blip r:embed="rId5"/>
          <a:stretch/>
        </p:blipFill>
        <p:spPr>
          <a:xfrm>
            <a:off x="285840" y="2387520"/>
            <a:ext cx="8786880" cy="42408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4" descr=""/>
          <p:cNvPicPr/>
          <p:nvPr/>
        </p:nvPicPr>
        <p:blipFill>
          <a:blip r:embed="rId6"/>
          <a:stretch/>
        </p:blipFill>
        <p:spPr>
          <a:xfrm>
            <a:off x="285840" y="3000240"/>
            <a:ext cx="8786880" cy="42408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4" descr=""/>
          <p:cNvPicPr/>
          <p:nvPr/>
        </p:nvPicPr>
        <p:blipFill>
          <a:blip r:embed="rId7"/>
          <a:stretch/>
        </p:blipFill>
        <p:spPr>
          <a:xfrm>
            <a:off x="285840" y="3540240"/>
            <a:ext cx="8786880" cy="42372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4" descr=""/>
          <p:cNvPicPr/>
          <p:nvPr/>
        </p:nvPicPr>
        <p:blipFill>
          <a:blip r:embed="rId8"/>
          <a:stretch/>
        </p:blipFill>
        <p:spPr>
          <a:xfrm>
            <a:off x="285840" y="4102200"/>
            <a:ext cx="8786880" cy="70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6" name="Picture 4" descr=""/>
          <p:cNvPicPr/>
          <p:nvPr/>
        </p:nvPicPr>
        <p:blipFill>
          <a:blip r:embed="rId1"/>
          <a:stretch/>
        </p:blipFill>
        <p:spPr>
          <a:xfrm>
            <a:off x="509760" y="914400"/>
            <a:ext cx="8124480" cy="580068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4" descr=""/>
          <p:cNvPicPr/>
          <p:nvPr/>
        </p:nvPicPr>
        <p:blipFill>
          <a:blip r:embed="rId2"/>
          <a:stretch/>
        </p:blipFill>
        <p:spPr>
          <a:xfrm>
            <a:off x="285840" y="2530440"/>
            <a:ext cx="4929120" cy="42372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4" descr=""/>
          <p:cNvPicPr/>
          <p:nvPr/>
        </p:nvPicPr>
        <p:blipFill>
          <a:blip r:embed="rId3"/>
          <a:stretch/>
        </p:blipFill>
        <p:spPr>
          <a:xfrm>
            <a:off x="285840" y="3051000"/>
            <a:ext cx="4929120" cy="42408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4" descr=""/>
          <p:cNvPicPr/>
          <p:nvPr/>
        </p:nvPicPr>
        <p:blipFill>
          <a:blip r:embed="rId4"/>
          <a:stretch/>
        </p:blipFill>
        <p:spPr>
          <a:xfrm>
            <a:off x="285840" y="3603600"/>
            <a:ext cx="4929120" cy="42372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4" descr=""/>
          <p:cNvPicPr/>
          <p:nvPr/>
        </p:nvPicPr>
        <p:blipFill>
          <a:blip r:embed="rId5"/>
          <a:stretch/>
        </p:blipFill>
        <p:spPr>
          <a:xfrm>
            <a:off x="285840" y="4097160"/>
            <a:ext cx="4929120" cy="42408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4" descr=""/>
          <p:cNvPicPr/>
          <p:nvPr/>
        </p:nvPicPr>
        <p:blipFill>
          <a:blip r:embed="rId6"/>
          <a:stretch/>
        </p:blipFill>
        <p:spPr>
          <a:xfrm>
            <a:off x="285840" y="4648320"/>
            <a:ext cx="4929120" cy="42372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4" descr=""/>
          <p:cNvPicPr/>
          <p:nvPr/>
        </p:nvPicPr>
        <p:blipFill>
          <a:blip r:embed="rId7"/>
          <a:stretch/>
        </p:blipFill>
        <p:spPr>
          <a:xfrm>
            <a:off x="285840" y="5189400"/>
            <a:ext cx="8786880" cy="42408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4" descr=""/>
          <p:cNvPicPr/>
          <p:nvPr/>
        </p:nvPicPr>
        <p:blipFill>
          <a:blip r:embed="rId8"/>
          <a:stretch/>
        </p:blipFill>
        <p:spPr>
          <a:xfrm>
            <a:off x="285840" y="5719680"/>
            <a:ext cx="8786880" cy="42408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4" descr=""/>
          <p:cNvPicPr/>
          <p:nvPr/>
        </p:nvPicPr>
        <p:blipFill>
          <a:blip r:embed="rId9"/>
          <a:stretch/>
        </p:blipFill>
        <p:spPr>
          <a:xfrm>
            <a:off x="285840" y="6280200"/>
            <a:ext cx="8786880" cy="42372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3" descr=""/>
          <p:cNvPicPr/>
          <p:nvPr/>
        </p:nvPicPr>
        <p:blipFill>
          <a:blip r:embed="rId10"/>
          <a:stretch/>
        </p:blipFill>
        <p:spPr>
          <a:xfrm>
            <a:off x="5256360" y="2440080"/>
            <a:ext cx="338112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2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6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1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6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6" name="Picture 3" descr=""/>
          <p:cNvPicPr/>
          <p:nvPr/>
        </p:nvPicPr>
        <p:blipFill>
          <a:blip r:embed="rId1"/>
          <a:stretch/>
        </p:blipFill>
        <p:spPr>
          <a:xfrm>
            <a:off x="642960" y="785880"/>
            <a:ext cx="7788240" cy="600084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4" descr=""/>
          <p:cNvPicPr/>
          <p:nvPr/>
        </p:nvPicPr>
        <p:blipFill>
          <a:blip r:embed="rId2"/>
          <a:stretch/>
        </p:blipFill>
        <p:spPr>
          <a:xfrm>
            <a:off x="285840" y="735120"/>
            <a:ext cx="8786880" cy="42372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4" descr=""/>
          <p:cNvPicPr/>
          <p:nvPr/>
        </p:nvPicPr>
        <p:blipFill>
          <a:blip r:embed="rId3"/>
          <a:stretch/>
        </p:blipFill>
        <p:spPr>
          <a:xfrm>
            <a:off x="285840" y="1254240"/>
            <a:ext cx="8786880" cy="42372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4" descr=""/>
          <p:cNvPicPr/>
          <p:nvPr/>
        </p:nvPicPr>
        <p:blipFill>
          <a:blip r:embed="rId4"/>
          <a:stretch/>
        </p:blipFill>
        <p:spPr>
          <a:xfrm>
            <a:off x="285840" y="1765440"/>
            <a:ext cx="8786880" cy="42372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4" descr=""/>
          <p:cNvPicPr/>
          <p:nvPr/>
        </p:nvPicPr>
        <p:blipFill>
          <a:blip r:embed="rId5"/>
          <a:stretch/>
        </p:blipFill>
        <p:spPr>
          <a:xfrm>
            <a:off x="285840" y="2274840"/>
            <a:ext cx="8786880" cy="42552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4" descr=""/>
          <p:cNvPicPr/>
          <p:nvPr/>
        </p:nvPicPr>
        <p:blipFill>
          <a:blip r:embed="rId6"/>
          <a:stretch/>
        </p:blipFill>
        <p:spPr>
          <a:xfrm>
            <a:off x="285840" y="2825640"/>
            <a:ext cx="8786880" cy="42408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4" descr=""/>
          <p:cNvPicPr/>
          <p:nvPr/>
        </p:nvPicPr>
        <p:blipFill>
          <a:blip r:embed="rId7"/>
          <a:stretch/>
        </p:blipFill>
        <p:spPr>
          <a:xfrm>
            <a:off x="285840" y="3387600"/>
            <a:ext cx="8786880" cy="65880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4" descr=""/>
          <p:cNvPicPr/>
          <p:nvPr/>
        </p:nvPicPr>
        <p:blipFill>
          <a:blip r:embed="rId8"/>
          <a:stretch/>
        </p:blipFill>
        <p:spPr>
          <a:xfrm>
            <a:off x="285840" y="4179960"/>
            <a:ext cx="8786880" cy="42372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4" descr=""/>
          <p:cNvPicPr/>
          <p:nvPr/>
        </p:nvPicPr>
        <p:blipFill>
          <a:blip r:embed="rId9"/>
          <a:stretch/>
        </p:blipFill>
        <p:spPr>
          <a:xfrm>
            <a:off x="285840" y="4786200"/>
            <a:ext cx="8786880" cy="77328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4" descr=""/>
          <p:cNvPicPr/>
          <p:nvPr/>
        </p:nvPicPr>
        <p:blipFill>
          <a:blip r:embed="rId10"/>
          <a:stretch/>
        </p:blipFill>
        <p:spPr>
          <a:xfrm>
            <a:off x="285840" y="5740560"/>
            <a:ext cx="8786880" cy="42372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4" descr=""/>
          <p:cNvPicPr/>
          <p:nvPr/>
        </p:nvPicPr>
        <p:blipFill>
          <a:blip r:embed="rId11"/>
          <a:stretch/>
        </p:blipFill>
        <p:spPr>
          <a:xfrm>
            <a:off x="285840" y="6323040"/>
            <a:ext cx="8786880" cy="4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3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8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3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8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3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8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3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8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3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8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7" name="Picture 2" descr=""/>
          <p:cNvPicPr/>
          <p:nvPr/>
        </p:nvPicPr>
        <p:blipFill>
          <a:blip r:embed="rId1"/>
          <a:stretch/>
        </p:blipFill>
        <p:spPr>
          <a:xfrm>
            <a:off x="357120" y="928800"/>
            <a:ext cx="8391600" cy="580068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3" descr=""/>
          <p:cNvPicPr/>
          <p:nvPr/>
        </p:nvPicPr>
        <p:blipFill>
          <a:blip r:embed="rId2"/>
          <a:stretch/>
        </p:blipFill>
        <p:spPr>
          <a:xfrm>
            <a:off x="6113520" y="3357720"/>
            <a:ext cx="2657520" cy="299052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4" descr=""/>
          <p:cNvPicPr/>
          <p:nvPr/>
        </p:nvPicPr>
        <p:blipFill>
          <a:blip r:embed="rId3"/>
          <a:stretch/>
        </p:blipFill>
        <p:spPr>
          <a:xfrm>
            <a:off x="285840" y="3408480"/>
            <a:ext cx="5286240" cy="42372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4" descr=""/>
          <p:cNvPicPr/>
          <p:nvPr/>
        </p:nvPicPr>
        <p:blipFill>
          <a:blip r:embed="rId4"/>
          <a:stretch/>
        </p:blipFill>
        <p:spPr>
          <a:xfrm>
            <a:off x="285840" y="3862440"/>
            <a:ext cx="5286240" cy="42372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4" descr=""/>
          <p:cNvPicPr/>
          <p:nvPr/>
        </p:nvPicPr>
        <p:blipFill>
          <a:blip r:embed="rId5"/>
          <a:stretch/>
        </p:blipFill>
        <p:spPr>
          <a:xfrm>
            <a:off x="285840" y="4362480"/>
            <a:ext cx="5286240" cy="42372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4" descr=""/>
          <p:cNvPicPr/>
          <p:nvPr/>
        </p:nvPicPr>
        <p:blipFill>
          <a:blip r:embed="rId6"/>
          <a:stretch/>
        </p:blipFill>
        <p:spPr>
          <a:xfrm>
            <a:off x="285840" y="4811760"/>
            <a:ext cx="5286240" cy="42372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4" descr=""/>
          <p:cNvPicPr/>
          <p:nvPr/>
        </p:nvPicPr>
        <p:blipFill>
          <a:blip r:embed="rId7"/>
          <a:stretch/>
        </p:blipFill>
        <p:spPr>
          <a:xfrm>
            <a:off x="285840" y="5291280"/>
            <a:ext cx="5286240" cy="423720"/>
          </a:xfrm>
          <a:prstGeom prst="rect">
            <a:avLst/>
          </a:prstGeom>
          <a:ln w="0">
            <a:noFill/>
          </a:ln>
        </p:spPr>
      </p:pic>
      <p:pic>
        <p:nvPicPr>
          <p:cNvPr id="1094" name="Picture 4" descr=""/>
          <p:cNvPicPr/>
          <p:nvPr/>
        </p:nvPicPr>
        <p:blipFill>
          <a:blip r:embed="rId8"/>
          <a:stretch/>
        </p:blipFill>
        <p:spPr>
          <a:xfrm>
            <a:off x="285840" y="5791320"/>
            <a:ext cx="5286240" cy="423720"/>
          </a:xfrm>
          <a:prstGeom prst="rect">
            <a:avLst/>
          </a:prstGeom>
          <a:ln w="0">
            <a:noFill/>
          </a:ln>
        </p:spPr>
      </p:pic>
      <p:pic>
        <p:nvPicPr>
          <p:cNvPr id="1095" name="Picture 4" descr=""/>
          <p:cNvPicPr/>
          <p:nvPr/>
        </p:nvPicPr>
        <p:blipFill>
          <a:blip r:embed="rId9"/>
          <a:stretch/>
        </p:blipFill>
        <p:spPr>
          <a:xfrm>
            <a:off x="285840" y="6300720"/>
            <a:ext cx="5286240" cy="4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2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0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5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0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5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0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5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0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6" name="Picture 2" descr=""/>
          <p:cNvPicPr/>
          <p:nvPr/>
        </p:nvPicPr>
        <p:blipFill>
          <a:blip r:embed="rId1"/>
          <a:stretch/>
        </p:blipFill>
        <p:spPr>
          <a:xfrm>
            <a:off x="814320" y="728640"/>
            <a:ext cx="7515360" cy="6058080"/>
          </a:xfrm>
          <a:prstGeom prst="rect">
            <a:avLst/>
          </a:prstGeom>
          <a:ln w="0">
            <a:noFill/>
          </a:ln>
        </p:spPr>
      </p:pic>
      <p:pic>
        <p:nvPicPr>
          <p:cNvPr id="1097" name="Picture 4" descr=""/>
          <p:cNvPicPr/>
          <p:nvPr/>
        </p:nvPicPr>
        <p:blipFill>
          <a:blip r:embed="rId2"/>
          <a:stretch/>
        </p:blipFill>
        <p:spPr>
          <a:xfrm>
            <a:off x="285840" y="754200"/>
            <a:ext cx="8786880" cy="1263600"/>
          </a:xfrm>
          <a:prstGeom prst="rect">
            <a:avLst/>
          </a:prstGeom>
          <a:ln w="0">
            <a:noFill/>
          </a:ln>
        </p:spPr>
      </p:pic>
      <p:pic>
        <p:nvPicPr>
          <p:cNvPr id="1098" name="Picture 4" descr=""/>
          <p:cNvPicPr/>
          <p:nvPr/>
        </p:nvPicPr>
        <p:blipFill>
          <a:blip r:embed="rId3"/>
          <a:stretch/>
        </p:blipFill>
        <p:spPr>
          <a:xfrm>
            <a:off x="285840" y="2131920"/>
            <a:ext cx="8786880" cy="42552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4" descr=""/>
          <p:cNvPicPr/>
          <p:nvPr/>
        </p:nvPicPr>
        <p:blipFill>
          <a:blip r:embed="rId4"/>
          <a:stretch/>
        </p:blipFill>
        <p:spPr>
          <a:xfrm>
            <a:off x="285840" y="2611440"/>
            <a:ext cx="8786880" cy="423720"/>
          </a:xfrm>
          <a:prstGeom prst="rect">
            <a:avLst/>
          </a:prstGeom>
          <a:ln w="0">
            <a:noFill/>
          </a:ln>
        </p:spPr>
      </p:pic>
      <p:pic>
        <p:nvPicPr>
          <p:cNvPr id="1100" name="Picture 4" descr=""/>
          <p:cNvPicPr/>
          <p:nvPr/>
        </p:nvPicPr>
        <p:blipFill>
          <a:blip r:embed="rId5"/>
          <a:stretch/>
        </p:blipFill>
        <p:spPr>
          <a:xfrm>
            <a:off x="285840" y="3132000"/>
            <a:ext cx="8786880" cy="425520"/>
          </a:xfrm>
          <a:prstGeom prst="rect">
            <a:avLst/>
          </a:prstGeom>
          <a:ln w="0">
            <a:noFill/>
          </a:ln>
        </p:spPr>
      </p:pic>
      <p:pic>
        <p:nvPicPr>
          <p:cNvPr id="1101" name="Picture 4" descr=""/>
          <p:cNvPicPr/>
          <p:nvPr/>
        </p:nvPicPr>
        <p:blipFill>
          <a:blip r:embed="rId6"/>
          <a:stretch/>
        </p:blipFill>
        <p:spPr>
          <a:xfrm>
            <a:off x="285840" y="3576600"/>
            <a:ext cx="8786880" cy="424080"/>
          </a:xfrm>
          <a:prstGeom prst="rect">
            <a:avLst/>
          </a:prstGeom>
          <a:ln w="0">
            <a:noFill/>
          </a:ln>
        </p:spPr>
      </p:pic>
      <p:pic>
        <p:nvPicPr>
          <p:cNvPr id="1102" name="Picture 4" descr=""/>
          <p:cNvPicPr/>
          <p:nvPr/>
        </p:nvPicPr>
        <p:blipFill>
          <a:blip r:embed="rId7"/>
          <a:stretch/>
        </p:blipFill>
        <p:spPr>
          <a:xfrm>
            <a:off x="285840" y="4014720"/>
            <a:ext cx="8786880" cy="425520"/>
          </a:xfrm>
          <a:prstGeom prst="rect">
            <a:avLst/>
          </a:prstGeom>
          <a:ln w="0">
            <a:noFill/>
          </a:ln>
        </p:spPr>
      </p:pic>
      <p:pic>
        <p:nvPicPr>
          <p:cNvPr id="1103" name="Picture 4" descr=""/>
          <p:cNvPicPr/>
          <p:nvPr/>
        </p:nvPicPr>
        <p:blipFill>
          <a:blip r:embed="rId8"/>
          <a:stretch/>
        </p:blipFill>
        <p:spPr>
          <a:xfrm>
            <a:off x="285840" y="4525920"/>
            <a:ext cx="8786880" cy="424080"/>
          </a:xfrm>
          <a:prstGeom prst="rect">
            <a:avLst/>
          </a:prstGeom>
          <a:ln w="0">
            <a:noFill/>
          </a:ln>
        </p:spPr>
      </p:pic>
      <p:pic>
        <p:nvPicPr>
          <p:cNvPr id="1104" name="Picture 4" descr=""/>
          <p:cNvPicPr/>
          <p:nvPr/>
        </p:nvPicPr>
        <p:blipFill>
          <a:blip r:embed="rId9"/>
          <a:stretch/>
        </p:blipFill>
        <p:spPr>
          <a:xfrm>
            <a:off x="285840" y="5014800"/>
            <a:ext cx="8786880" cy="425520"/>
          </a:xfrm>
          <a:prstGeom prst="rect">
            <a:avLst/>
          </a:prstGeom>
          <a:ln w="0">
            <a:noFill/>
          </a:ln>
        </p:spPr>
      </p:pic>
      <p:pic>
        <p:nvPicPr>
          <p:cNvPr id="1105" name="Picture 4" descr=""/>
          <p:cNvPicPr/>
          <p:nvPr/>
        </p:nvPicPr>
        <p:blipFill>
          <a:blip r:embed="rId10"/>
          <a:stretch/>
        </p:blipFill>
        <p:spPr>
          <a:xfrm>
            <a:off x="285840" y="5505480"/>
            <a:ext cx="8786880" cy="423720"/>
          </a:xfrm>
          <a:prstGeom prst="rect">
            <a:avLst/>
          </a:prstGeom>
          <a:ln w="0">
            <a:noFill/>
          </a:ln>
        </p:spPr>
      </p:pic>
      <p:pic>
        <p:nvPicPr>
          <p:cNvPr id="1106" name="Picture 4" descr=""/>
          <p:cNvPicPr/>
          <p:nvPr/>
        </p:nvPicPr>
        <p:blipFill>
          <a:blip r:embed="rId11"/>
          <a:stretch/>
        </p:blipFill>
        <p:spPr>
          <a:xfrm>
            <a:off x="285840" y="6083280"/>
            <a:ext cx="8786880" cy="7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7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2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7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2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7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2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7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2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Picture 2" descr=""/>
          <p:cNvPicPr/>
          <p:nvPr/>
        </p:nvPicPr>
        <p:blipFill>
          <a:blip r:embed="rId1"/>
          <a:stretch/>
        </p:blipFill>
        <p:spPr>
          <a:xfrm>
            <a:off x="571680" y="714240"/>
            <a:ext cx="8001000" cy="600264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3" descr=""/>
          <p:cNvPicPr/>
          <p:nvPr/>
        </p:nvPicPr>
        <p:blipFill>
          <a:blip r:embed="rId2"/>
          <a:stretch/>
        </p:blipFill>
        <p:spPr>
          <a:xfrm>
            <a:off x="4857840" y="3929040"/>
            <a:ext cx="3706560" cy="274176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4" descr=""/>
          <p:cNvPicPr/>
          <p:nvPr/>
        </p:nvPicPr>
        <p:blipFill>
          <a:blip r:embed="rId3"/>
          <a:stretch/>
        </p:blipFill>
        <p:spPr>
          <a:xfrm>
            <a:off x="285840" y="4014720"/>
            <a:ext cx="4429080" cy="42552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4" descr=""/>
          <p:cNvPicPr/>
          <p:nvPr/>
        </p:nvPicPr>
        <p:blipFill>
          <a:blip r:embed="rId4"/>
          <a:stretch/>
        </p:blipFill>
        <p:spPr>
          <a:xfrm>
            <a:off x="285840" y="4454640"/>
            <a:ext cx="4429080" cy="42372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4" descr=""/>
          <p:cNvPicPr/>
          <p:nvPr/>
        </p:nvPicPr>
        <p:blipFill>
          <a:blip r:embed="rId5"/>
          <a:stretch/>
        </p:blipFill>
        <p:spPr>
          <a:xfrm>
            <a:off x="285840" y="4933800"/>
            <a:ext cx="4429080" cy="42408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4" descr=""/>
          <p:cNvPicPr/>
          <p:nvPr/>
        </p:nvPicPr>
        <p:blipFill>
          <a:blip r:embed="rId6"/>
          <a:stretch/>
        </p:blipFill>
        <p:spPr>
          <a:xfrm>
            <a:off x="285840" y="5362560"/>
            <a:ext cx="4429080" cy="42372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4" descr=""/>
          <p:cNvPicPr/>
          <p:nvPr/>
        </p:nvPicPr>
        <p:blipFill>
          <a:blip r:embed="rId7"/>
          <a:stretch/>
        </p:blipFill>
        <p:spPr>
          <a:xfrm>
            <a:off x="285840" y="5811840"/>
            <a:ext cx="4429080" cy="42372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4" descr=""/>
          <p:cNvPicPr/>
          <p:nvPr/>
        </p:nvPicPr>
        <p:blipFill>
          <a:blip r:embed="rId8"/>
          <a:stretch/>
        </p:blipFill>
        <p:spPr>
          <a:xfrm>
            <a:off x="285840" y="6251400"/>
            <a:ext cx="442908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9" dur="20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4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9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4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9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4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9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5" name="Picture 1" descr=""/>
          <p:cNvPicPr/>
          <p:nvPr/>
        </p:nvPicPr>
        <p:blipFill>
          <a:blip r:embed="rId1"/>
          <a:stretch/>
        </p:blipFill>
        <p:spPr>
          <a:xfrm>
            <a:off x="785880" y="785880"/>
            <a:ext cx="7619760" cy="593100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4" descr=""/>
          <p:cNvPicPr/>
          <p:nvPr/>
        </p:nvPicPr>
        <p:blipFill>
          <a:blip r:embed="rId2"/>
          <a:stretch/>
        </p:blipFill>
        <p:spPr>
          <a:xfrm>
            <a:off x="285840" y="785880"/>
            <a:ext cx="8786880" cy="42372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4" descr=""/>
          <p:cNvPicPr/>
          <p:nvPr/>
        </p:nvPicPr>
        <p:blipFill>
          <a:blip r:embed="rId3"/>
          <a:stretch/>
        </p:blipFill>
        <p:spPr>
          <a:xfrm>
            <a:off x="285840" y="1274760"/>
            <a:ext cx="8786880" cy="42552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4" descr=""/>
          <p:cNvPicPr/>
          <p:nvPr/>
        </p:nvPicPr>
        <p:blipFill>
          <a:blip r:embed="rId4"/>
          <a:stretch/>
        </p:blipFill>
        <p:spPr>
          <a:xfrm>
            <a:off x="285840" y="1693800"/>
            <a:ext cx="8786880" cy="42408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4" descr=""/>
          <p:cNvPicPr/>
          <p:nvPr/>
        </p:nvPicPr>
        <p:blipFill>
          <a:blip r:embed="rId5"/>
          <a:stretch/>
        </p:blipFill>
        <p:spPr>
          <a:xfrm>
            <a:off x="285840" y="2193840"/>
            <a:ext cx="8786880" cy="42408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4" descr=""/>
          <p:cNvPicPr/>
          <p:nvPr/>
        </p:nvPicPr>
        <p:blipFill>
          <a:blip r:embed="rId6"/>
          <a:stretch/>
        </p:blipFill>
        <p:spPr>
          <a:xfrm>
            <a:off x="285840" y="2643120"/>
            <a:ext cx="8786880" cy="42408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4" descr=""/>
          <p:cNvPicPr/>
          <p:nvPr/>
        </p:nvPicPr>
        <p:blipFill>
          <a:blip r:embed="rId7"/>
          <a:stretch/>
        </p:blipFill>
        <p:spPr>
          <a:xfrm>
            <a:off x="285840" y="3143160"/>
            <a:ext cx="8786880" cy="42408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4" descr=""/>
          <p:cNvPicPr/>
          <p:nvPr/>
        </p:nvPicPr>
        <p:blipFill>
          <a:blip r:embed="rId8"/>
          <a:stretch/>
        </p:blipFill>
        <p:spPr>
          <a:xfrm>
            <a:off x="285840" y="3643200"/>
            <a:ext cx="8786880" cy="42408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4" descr=""/>
          <p:cNvPicPr/>
          <p:nvPr/>
        </p:nvPicPr>
        <p:blipFill>
          <a:blip r:embed="rId9"/>
          <a:stretch/>
        </p:blipFill>
        <p:spPr>
          <a:xfrm>
            <a:off x="285840" y="4086360"/>
            <a:ext cx="8786880" cy="42516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4" descr=""/>
          <p:cNvPicPr/>
          <p:nvPr/>
        </p:nvPicPr>
        <p:blipFill>
          <a:blip r:embed="rId10"/>
          <a:stretch/>
        </p:blipFill>
        <p:spPr>
          <a:xfrm>
            <a:off x="285840" y="4597560"/>
            <a:ext cx="8786880" cy="42372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4" descr=""/>
          <p:cNvPicPr/>
          <p:nvPr/>
        </p:nvPicPr>
        <p:blipFill>
          <a:blip r:embed="rId11"/>
          <a:stretch/>
        </p:blipFill>
        <p:spPr>
          <a:xfrm>
            <a:off x="285840" y="5110200"/>
            <a:ext cx="8786880" cy="73332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4" descr=""/>
          <p:cNvPicPr/>
          <p:nvPr/>
        </p:nvPicPr>
        <p:blipFill>
          <a:blip r:embed="rId12"/>
          <a:stretch/>
        </p:blipFill>
        <p:spPr>
          <a:xfrm>
            <a:off x="285840" y="6012000"/>
            <a:ext cx="878688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6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1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6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1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6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1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6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1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6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1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6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1" descr=""/>
          <p:cNvPicPr/>
          <p:nvPr/>
        </p:nvPicPr>
        <p:blipFill>
          <a:blip r:embed="rId1"/>
          <a:stretch/>
        </p:blipFill>
        <p:spPr>
          <a:xfrm>
            <a:off x="304920" y="857160"/>
            <a:ext cx="8534160" cy="580068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4" descr=""/>
          <p:cNvPicPr/>
          <p:nvPr/>
        </p:nvPicPr>
        <p:blipFill>
          <a:blip r:embed="rId2"/>
          <a:stretch/>
        </p:blipFill>
        <p:spPr>
          <a:xfrm>
            <a:off x="7943760" y="1357200"/>
            <a:ext cx="465120" cy="39708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4" descr=""/>
          <p:cNvPicPr/>
          <p:nvPr/>
        </p:nvPicPr>
        <p:blipFill>
          <a:blip r:embed="rId3"/>
          <a:stretch/>
        </p:blipFill>
        <p:spPr>
          <a:xfrm>
            <a:off x="7897680" y="5154480"/>
            <a:ext cx="465120" cy="3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Picture 1" descr=""/>
          <p:cNvPicPr/>
          <p:nvPr/>
        </p:nvPicPr>
        <p:blipFill>
          <a:blip r:embed="rId1"/>
          <a:stretch/>
        </p:blipFill>
        <p:spPr>
          <a:xfrm>
            <a:off x="295200" y="909720"/>
            <a:ext cx="8553600" cy="573408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4" descr=""/>
          <p:cNvPicPr/>
          <p:nvPr/>
        </p:nvPicPr>
        <p:blipFill>
          <a:blip r:embed="rId2"/>
          <a:stretch/>
        </p:blipFill>
        <p:spPr>
          <a:xfrm>
            <a:off x="7943760" y="1500120"/>
            <a:ext cx="465120" cy="3970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4" descr=""/>
          <p:cNvPicPr/>
          <p:nvPr/>
        </p:nvPicPr>
        <p:blipFill>
          <a:blip r:embed="rId3"/>
          <a:stretch/>
        </p:blipFill>
        <p:spPr>
          <a:xfrm>
            <a:off x="7943760" y="3603600"/>
            <a:ext cx="465120" cy="3970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4" descr=""/>
          <p:cNvPicPr/>
          <p:nvPr/>
        </p:nvPicPr>
        <p:blipFill>
          <a:blip r:embed="rId4"/>
          <a:stretch/>
        </p:blipFill>
        <p:spPr>
          <a:xfrm>
            <a:off x="7943760" y="5246640"/>
            <a:ext cx="465120" cy="3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Picture 1" descr=""/>
          <p:cNvPicPr/>
          <p:nvPr/>
        </p:nvPicPr>
        <p:blipFill>
          <a:blip r:embed="rId1"/>
          <a:srcRect l="0" t="0" r="1495" b="0"/>
          <a:stretch/>
        </p:blipFill>
        <p:spPr>
          <a:xfrm>
            <a:off x="237960" y="716040"/>
            <a:ext cx="8537760" cy="610560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4" descr=""/>
          <p:cNvPicPr/>
          <p:nvPr/>
        </p:nvPicPr>
        <p:blipFill>
          <a:blip r:embed="rId2"/>
          <a:stretch/>
        </p:blipFill>
        <p:spPr>
          <a:xfrm>
            <a:off x="7858080" y="1285920"/>
            <a:ext cx="465120" cy="3967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4" descr=""/>
          <p:cNvPicPr/>
          <p:nvPr/>
        </p:nvPicPr>
        <p:blipFill>
          <a:blip r:embed="rId3"/>
          <a:stretch/>
        </p:blipFill>
        <p:spPr>
          <a:xfrm>
            <a:off x="7858080" y="2928960"/>
            <a:ext cx="465120" cy="3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Picture 1" descr=""/>
          <p:cNvPicPr/>
          <p:nvPr/>
        </p:nvPicPr>
        <p:blipFill>
          <a:blip r:embed="rId1"/>
          <a:stretch/>
        </p:blipFill>
        <p:spPr>
          <a:xfrm>
            <a:off x="361800" y="1081080"/>
            <a:ext cx="8420400" cy="469584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4" descr=""/>
          <p:cNvPicPr/>
          <p:nvPr/>
        </p:nvPicPr>
        <p:blipFill>
          <a:blip r:embed="rId2"/>
          <a:stretch/>
        </p:blipFill>
        <p:spPr>
          <a:xfrm>
            <a:off x="7943760" y="1785960"/>
            <a:ext cx="465120" cy="39672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4" descr=""/>
          <p:cNvPicPr/>
          <p:nvPr/>
        </p:nvPicPr>
        <p:blipFill>
          <a:blip r:embed="rId3"/>
          <a:stretch/>
        </p:blipFill>
        <p:spPr>
          <a:xfrm>
            <a:off x="6143760" y="5286240"/>
            <a:ext cx="714240" cy="3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Picture 1" descr=""/>
          <p:cNvPicPr/>
          <p:nvPr/>
        </p:nvPicPr>
        <p:blipFill>
          <a:blip r:embed="rId1"/>
          <a:stretch/>
        </p:blipFill>
        <p:spPr>
          <a:xfrm>
            <a:off x="324000" y="928800"/>
            <a:ext cx="8496000" cy="571500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4" descr=""/>
          <p:cNvPicPr/>
          <p:nvPr/>
        </p:nvPicPr>
        <p:blipFill>
          <a:blip r:embed="rId2"/>
          <a:stretch/>
        </p:blipFill>
        <p:spPr>
          <a:xfrm>
            <a:off x="7143840" y="1563840"/>
            <a:ext cx="1000080" cy="39672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4" descr=""/>
          <p:cNvPicPr/>
          <p:nvPr/>
        </p:nvPicPr>
        <p:blipFill>
          <a:blip r:embed="rId3"/>
          <a:stretch/>
        </p:blipFill>
        <p:spPr>
          <a:xfrm>
            <a:off x="2244600" y="6183360"/>
            <a:ext cx="463680" cy="3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Picture 1" descr=""/>
          <p:cNvPicPr/>
          <p:nvPr/>
        </p:nvPicPr>
        <p:blipFill>
          <a:blip r:embed="rId1"/>
          <a:stretch/>
        </p:blipFill>
        <p:spPr>
          <a:xfrm>
            <a:off x="309600" y="1271520"/>
            <a:ext cx="8524800" cy="480060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4" descr=""/>
          <p:cNvPicPr/>
          <p:nvPr/>
        </p:nvPicPr>
        <p:blipFill>
          <a:blip r:embed="rId2"/>
          <a:stretch/>
        </p:blipFill>
        <p:spPr>
          <a:xfrm>
            <a:off x="5857920" y="1785960"/>
            <a:ext cx="857160" cy="39672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4" descr=""/>
          <p:cNvPicPr/>
          <p:nvPr/>
        </p:nvPicPr>
        <p:blipFill>
          <a:blip r:embed="rId3"/>
          <a:stretch/>
        </p:blipFill>
        <p:spPr>
          <a:xfrm>
            <a:off x="3214800" y="2286000"/>
            <a:ext cx="857160" cy="39672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4" descr=""/>
          <p:cNvPicPr/>
          <p:nvPr/>
        </p:nvPicPr>
        <p:blipFill>
          <a:blip r:embed="rId4"/>
          <a:stretch/>
        </p:blipFill>
        <p:spPr>
          <a:xfrm>
            <a:off x="2428920" y="5572080"/>
            <a:ext cx="714240" cy="3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1" descr=""/>
          <p:cNvPicPr/>
          <p:nvPr/>
        </p:nvPicPr>
        <p:blipFill>
          <a:blip r:embed="rId1"/>
          <a:stretch/>
        </p:blipFill>
        <p:spPr>
          <a:xfrm>
            <a:off x="366840" y="1824120"/>
            <a:ext cx="8410320" cy="320976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4" descr=""/>
          <p:cNvPicPr/>
          <p:nvPr/>
        </p:nvPicPr>
        <p:blipFill>
          <a:blip r:embed="rId2"/>
          <a:stretch/>
        </p:blipFill>
        <p:spPr>
          <a:xfrm>
            <a:off x="2786040" y="4564080"/>
            <a:ext cx="85716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Picture 1" descr=""/>
          <p:cNvPicPr/>
          <p:nvPr/>
        </p:nvPicPr>
        <p:blipFill>
          <a:blip r:embed="rId1"/>
          <a:stretch/>
        </p:blipFill>
        <p:spPr>
          <a:xfrm>
            <a:off x="361800" y="1266840"/>
            <a:ext cx="8420400" cy="432432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4" descr=""/>
          <p:cNvPicPr/>
          <p:nvPr/>
        </p:nvPicPr>
        <p:blipFill>
          <a:blip r:embed="rId2"/>
          <a:stretch/>
        </p:blipFill>
        <p:spPr>
          <a:xfrm>
            <a:off x="285840" y="2917800"/>
            <a:ext cx="8786880" cy="42552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4" descr=""/>
          <p:cNvPicPr/>
          <p:nvPr/>
        </p:nvPicPr>
        <p:blipFill>
          <a:blip r:embed="rId3"/>
          <a:stretch/>
        </p:blipFill>
        <p:spPr>
          <a:xfrm>
            <a:off x="285840" y="3429000"/>
            <a:ext cx="8786880" cy="42372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4" descr=""/>
          <p:cNvPicPr/>
          <p:nvPr/>
        </p:nvPicPr>
        <p:blipFill>
          <a:blip r:embed="rId4"/>
          <a:stretch/>
        </p:blipFill>
        <p:spPr>
          <a:xfrm>
            <a:off x="285840" y="3943440"/>
            <a:ext cx="8786880" cy="42552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4" descr=""/>
          <p:cNvPicPr/>
          <p:nvPr/>
        </p:nvPicPr>
        <p:blipFill>
          <a:blip r:embed="rId5"/>
          <a:stretch/>
        </p:blipFill>
        <p:spPr>
          <a:xfrm>
            <a:off x="285840" y="4475160"/>
            <a:ext cx="8786880" cy="42372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4" descr=""/>
          <p:cNvPicPr/>
          <p:nvPr/>
        </p:nvPicPr>
        <p:blipFill>
          <a:blip r:embed="rId6"/>
          <a:stretch/>
        </p:blipFill>
        <p:spPr>
          <a:xfrm>
            <a:off x="285840" y="5065560"/>
            <a:ext cx="878688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4T07:48:14Z</dcterms:modified>
  <cp:revision>4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